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FBE-4BF8-4A31-9BD0-6B3639E9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97D-43F4-48F7-A378-FCB0E5DB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6BE4-2E92-419D-BB25-9F6F51A1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27B-DE70-47CB-B3B4-422125B3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5A9D-00EF-4C83-B9A5-5E9AC538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9097-70F6-44FD-B813-4E3EB430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D98D-5CAB-4DA4-BAC7-4C396279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9D2A-8D65-4DBE-B2C4-376595E4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29B3-3426-4496-8D01-6AE28179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2DF3-F8AD-4D2F-8272-DCD0524E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CA4D-44C6-4BB3-ADAC-3EE184C7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36D-D8FF-4FF7-8DF1-406D45DE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4E6D-7AB1-4F5D-BB70-63E6A891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0DA7-8FAB-4F75-B312-AE832807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B5D0-F3CE-4041-B1D4-42BFE46B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39A5-1916-4B40-8538-6480B973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D4B2-F966-47AB-80D5-28F32597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D811-7816-42E9-8D99-9BDCCD34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503B-4F9F-468A-BADB-663EDDEB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A74-64F0-44A2-838E-174BD3DF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98E-6F31-483E-ABE4-C7B0020C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D90-7E69-49D4-AACC-0E644086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874-522D-4DD5-9629-1EA2A0CF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0F95-0A7F-4740-AB4C-FD75BC6F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31DD-6EBA-4AD6-B014-CC92060BE81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F93F-9581-4249-AD13-9E630028013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905120"/>
            <a:ext cx="853416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3657600"/>
            <a:ext cx="7493040" cy="18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uart Forman MD, FAAF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a Costa Regional Medical Cen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ne 200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2819520"/>
          <a:ext cx="7620120" cy="11984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  <p:sp>
        <p:nvSpPr>
          <p:cNvPr id="114" name="Oval 3"/>
          <p:cNvSpPr/>
          <p:nvPr/>
        </p:nvSpPr>
        <p:spPr>
          <a:xfrm>
            <a:off x="5334120" y="2438280"/>
            <a:ext cx="3200400" cy="228600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523880" y="472428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ardiogenic and Hypovolemic shock are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UMP PROBLEMS.  The bodies hemodynamic responses are INTACT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09480" y="2819520"/>
          <a:ext cx="7620120" cy="1569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09480" y="2819520"/>
          <a:ext cx="7620120" cy="1569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2819520"/>
          <a:ext cx="7620120" cy="1569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  <p:sp>
        <p:nvSpPr>
          <p:cNvPr id="122" name="TextBox 3"/>
          <p:cNvSpPr/>
          <p:nvPr/>
        </p:nvSpPr>
        <p:spPr>
          <a:xfrm>
            <a:off x="1143000" y="4876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eptic shock causes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direct effects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n end organ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pectrum of Sep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fec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cterem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ystemic Inflammatory Response Syndrome (SIR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p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e Sep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ptic Sh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ltiorgan Dysfunction Syndrome (MOD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-123840" y="-23760"/>
            <a:ext cx="926784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y Recognition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can have shock with “normal” blood pres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ock will present with signs of end organ hypoperfu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creased urine outpu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ltered mental stat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lacta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BUN/C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cute lung inju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y Treatment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susci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nd the sour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lood cultures before antibiot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broad spectrum antibiot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p the pimp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boratory Examin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BC/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ta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ytes, BUN, Cr, LF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T/PT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lood cult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y relevant x-ray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2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7390-9C0A-4683-80AC-13D7ACBFE42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Heart 3"/>
          <p:cNvSpPr/>
          <p:nvPr/>
        </p:nvSpPr>
        <p:spPr>
          <a:xfrm>
            <a:off x="1295280" y="2057400"/>
            <a:ext cx="1905120" cy="1981080"/>
          </a:xfrm>
          <a:custGeom>
            <a:avLst/>
            <a:gdLst>
              <a:gd name="textAreaLeft" fmla="*/ 317520 w 1905120"/>
              <a:gd name="textAreaRight" fmla="*/ 1587600 w 1905120"/>
              <a:gd name="textAreaTop" fmla="*/ 495360 h 1981080"/>
              <a:gd name="textAreaBottom" fmla="*/ 1320840 h 1981080"/>
            </a:gdLst>
            <a:ahLst/>
            <a:rect l="textAreaLeft" t="textAreaTop" r="textAreaRight" b="textAreaBottom"/>
            <a:pathLst>
              <a:path w="1905000" h="1981200">
                <a:moveTo>
                  <a:pt x="952500" y="495300"/>
                </a:moveTo>
                <a:cubicBezTo>
                  <a:pt x="1349375" y="-660400"/>
                  <a:pt x="2897187" y="495300"/>
                  <a:pt x="952500" y="1981200"/>
                </a:cubicBezTo>
                <a:cubicBezTo>
                  <a:pt x="-992187" y="495300"/>
                  <a:pt x="555625" y="-660400"/>
                  <a:pt x="952500" y="495300"/>
                </a:cubicBez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Right Arrow 4"/>
          <p:cNvSpPr/>
          <p:nvPr/>
        </p:nvSpPr>
        <p:spPr>
          <a:xfrm>
            <a:off x="3124080" y="2514600"/>
            <a:ext cx="1676520" cy="533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3276720" y="2209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xygen out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Hexagon 6"/>
          <p:cNvSpPr/>
          <p:nvPr/>
        </p:nvSpPr>
        <p:spPr>
          <a:xfrm>
            <a:off x="48769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" name="Hexagon 7"/>
          <p:cNvSpPr/>
          <p:nvPr/>
        </p:nvSpPr>
        <p:spPr>
          <a:xfrm>
            <a:off x="57913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Hexagon 8"/>
          <p:cNvSpPr/>
          <p:nvPr/>
        </p:nvSpPr>
        <p:spPr>
          <a:xfrm>
            <a:off x="67057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02920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TextBox 11"/>
          <p:cNvSpPr/>
          <p:nvPr/>
        </p:nvSpPr>
        <p:spPr>
          <a:xfrm>
            <a:off x="594360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685800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6019920" y="28195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934320" y="2743200"/>
            <a:ext cx="43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108400" y="274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280320" y="4038480"/>
            <a:ext cx="447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= c(CO)(Hgb)(SaO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Shock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ck is a critical condition manifested by a failure of the circulatory system to maintain adequate perfusion to vital organs resulting in anaerobic metabolism and if uncorrected is incompatible with lif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 = (HR)(SV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ygen delive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xygen satur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gb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rdiac outp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2 = (Hgb)(CO)(SaO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Consump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1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644A-AF13-4BEC-8EDE-13BB712A155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53" name="Group 44"/>
          <p:cNvGrpSpPr/>
          <p:nvPr/>
        </p:nvGrpSpPr>
        <p:grpSpPr>
          <a:xfrm>
            <a:off x="609480" y="1752480"/>
            <a:ext cx="7315200" cy="3886200"/>
            <a:chOff x="609480" y="1752480"/>
            <a:chExt cx="7315200" cy="3886200"/>
          </a:xfrm>
        </p:grpSpPr>
        <p:grpSp>
          <p:nvGrpSpPr>
            <p:cNvPr id="154" name="Group 27"/>
            <p:cNvGrpSpPr/>
            <p:nvPr/>
          </p:nvGrpSpPr>
          <p:grpSpPr>
            <a:xfrm>
              <a:off x="3947760" y="1752480"/>
              <a:ext cx="3976920" cy="1194480"/>
              <a:chOff x="3947760" y="1752480"/>
              <a:chExt cx="3976920" cy="1194480"/>
            </a:xfrm>
          </p:grpSpPr>
          <p:sp>
            <p:nvSpPr>
              <p:cNvPr id="155" name="Heart 15"/>
              <p:cNvSpPr/>
              <p:nvPr/>
            </p:nvSpPr>
            <p:spPr>
              <a:xfrm>
                <a:off x="3947760" y="1752480"/>
                <a:ext cx="1198080" cy="1065600"/>
              </a:xfrm>
              <a:custGeom>
                <a:avLst/>
                <a:gdLst>
                  <a:gd name="textAreaLeft" fmla="*/ 199440 w 1198080"/>
                  <a:gd name="textAreaRight" fmla="*/ 998640 w 1198080"/>
                  <a:gd name="textAreaTop" fmla="*/ 266400 h 1065600"/>
                  <a:gd name="textAreaBottom" fmla="*/ 710640 h 1065600"/>
                </a:gdLst>
                <a:ahLst/>
                <a:rect l="textAreaLeft" t="textAreaTop" r="textAreaRight" b="textAreaBottom"/>
                <a:pathLst>
                  <a:path w="1905465" h="1980534">
                    <a:moveTo>
                      <a:pt x="952733" y="495134"/>
                    </a:moveTo>
                    <a:cubicBezTo>
                      <a:pt x="1349704" y="-660178"/>
                      <a:pt x="2897895" y="495134"/>
                      <a:pt x="952733" y="1980534"/>
                    </a:cubicBezTo>
                    <a:cubicBezTo>
                      <a:pt x="-992430" y="495134"/>
                      <a:pt x="555761" y="-660178"/>
                      <a:pt x="952733" y="495134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6" name="Right Arrow 16"/>
              <p:cNvSpPr/>
              <p:nvPr/>
            </p:nvSpPr>
            <p:spPr>
              <a:xfrm>
                <a:off x="5097240" y="1998360"/>
                <a:ext cx="1054080" cy="286920"/>
              </a:xfrm>
              <a:prstGeom prst="rightArrow">
                <a:avLst>
                  <a:gd name="adj1" fmla="val 50000"/>
                  <a:gd name="adj2" fmla="val 5844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7" name="Hexagon 18"/>
              <p:cNvSpPr/>
              <p:nvPr/>
            </p:nvSpPr>
            <p:spPr>
              <a:xfrm>
                <a:off x="619956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8" name="Hexagon 19"/>
              <p:cNvSpPr/>
              <p:nvPr/>
            </p:nvSpPr>
            <p:spPr>
              <a:xfrm>
                <a:off x="677484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9" name="Hexagon 20"/>
              <p:cNvSpPr/>
              <p:nvPr/>
            </p:nvSpPr>
            <p:spPr>
              <a:xfrm>
                <a:off x="734976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0" name="Rectangle 25"/>
              <p:cNvSpPr/>
              <p:nvPr/>
            </p:nvSpPr>
            <p:spPr>
              <a:xfrm>
                <a:off x="7493400" y="2121480"/>
                <a:ext cx="271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61" name="Bent Arrow 30"/>
            <p:cNvSpPr/>
            <p:nvPr/>
          </p:nvSpPr>
          <p:spPr>
            <a:xfrm flipH="1" flipV="1">
              <a:off x="5465880" y="2566800"/>
              <a:ext cx="1879560" cy="2570400"/>
            </a:xfrm>
            <a:custGeom>
              <a:avLst/>
              <a:gdLst/>
              <a:ahLst/>
              <a:rect l="l" t="t" r="r" b="b"/>
              <a:pathLst>
                <a:path w="1980836" h="3124511">
                  <a:moveTo>
                    <a:pt x="0" y="3124511"/>
                  </a:moveTo>
                  <a:lnTo>
                    <a:pt x="0" y="1114220"/>
                  </a:lnTo>
                  <a:lnTo>
                    <a:pt x="0" y="1114220"/>
                  </a:lnTo>
                  <a:arcTo wR="866616" hR="866616" stAng="-10799996" swAng="5400004"/>
                  <a:lnTo>
                    <a:pt x="1485627" y="247605"/>
                  </a:lnTo>
                  <a:lnTo>
                    <a:pt x="1485627" y="0"/>
                  </a:lnTo>
                  <a:lnTo>
                    <a:pt x="1980836" y="495209"/>
                  </a:lnTo>
                  <a:lnTo>
                    <a:pt x="1485627" y="990418"/>
                  </a:lnTo>
                  <a:lnTo>
                    <a:pt x="1485627" y="742814"/>
                  </a:lnTo>
                  <a:lnTo>
                    <a:pt x="866616" y="742814"/>
                  </a:lnTo>
                  <a:lnTo>
                    <a:pt x="866616" y="742814"/>
                  </a:lnTo>
                  <a:arcTo wR="371407" hR="371407" stAng="-5400000" swAng="-5400000"/>
                  <a:lnTo>
                    <a:pt x="495209" y="312451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2" name="Smiley Face 31"/>
            <p:cNvSpPr/>
            <p:nvPr/>
          </p:nvSpPr>
          <p:spPr>
            <a:xfrm>
              <a:off x="3586320" y="4008960"/>
              <a:ext cx="1807560" cy="1629720"/>
            </a:xfrm>
            <a:prstGeom prst="smileyFace">
              <a:avLst>
                <a:gd name="adj" fmla="val 9282"/>
              </a:avLst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3" name="Bent Arrow 32"/>
            <p:cNvSpPr/>
            <p:nvPr/>
          </p:nvSpPr>
          <p:spPr>
            <a:xfrm rot="16200000">
              <a:off x="1083960" y="2789280"/>
              <a:ext cx="2257560" cy="2313720"/>
            </a:xfrm>
            <a:custGeom>
              <a:avLst/>
              <a:gdLst/>
              <a:ahLst/>
              <a:rect l="l" t="t" r="r" b="b"/>
              <a:pathLst>
                <a:path w="2744321" h="2438466">
                  <a:moveTo>
                    <a:pt x="0" y="2438466"/>
                  </a:moveTo>
                  <a:lnTo>
                    <a:pt x="0" y="1371637"/>
                  </a:lnTo>
                  <a:lnTo>
                    <a:pt x="0" y="1371637"/>
                  </a:lnTo>
                  <a:arcTo wR="1066829" hR="1066829" stAng="-10799997" swAng="5400003"/>
                  <a:lnTo>
                    <a:pt x="2134705" y="304808"/>
                  </a:lnTo>
                  <a:lnTo>
                    <a:pt x="2134705" y="0"/>
                  </a:lnTo>
                  <a:lnTo>
                    <a:pt x="2744321" y="609617"/>
                  </a:lnTo>
                  <a:lnTo>
                    <a:pt x="2134705" y="1219233"/>
                  </a:lnTo>
                  <a:lnTo>
                    <a:pt x="2134705" y="914425"/>
                  </a:lnTo>
                  <a:lnTo>
                    <a:pt x="1066829" y="914425"/>
                  </a:lnTo>
                  <a:lnTo>
                    <a:pt x="1066829" y="914425"/>
                  </a:lnTo>
                  <a:arcTo wR="457212" hR="457212" stAng="-5399992" swAng="-5400000"/>
                  <a:lnTo>
                    <a:pt x="609617" y="2438466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pic>
          <p:nvPicPr>
            <p:cNvPr id="164" name="Group 42" descr=""/>
            <p:cNvPicPr/>
            <p:nvPr/>
          </p:nvPicPr>
          <p:blipFill>
            <a:blip r:embed="rId2"/>
            <a:stretch/>
          </p:blipFill>
          <p:spPr>
            <a:xfrm>
              <a:off x="609480" y="1865160"/>
              <a:ext cx="212400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ight Arrow 43"/>
            <p:cNvSpPr/>
            <p:nvPr/>
          </p:nvSpPr>
          <p:spPr>
            <a:xfrm>
              <a:off x="2862720" y="1939680"/>
              <a:ext cx="1012680" cy="399960"/>
            </a:xfrm>
            <a:prstGeom prst="rightArrow">
              <a:avLst>
                <a:gd name="adj1" fmla="val 50000"/>
                <a:gd name="adj2" fmla="val 57684"/>
              </a:avLst>
            </a:prstGeom>
            <a:solidFill>
              <a:srgbClr val="7030a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66" name="TextBox 45"/>
          <p:cNvSpPr/>
          <p:nvPr/>
        </p:nvSpPr>
        <p:spPr>
          <a:xfrm>
            <a:off x="510552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ut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" name="Rectangle 46"/>
          <p:cNvSpPr/>
          <p:nvPr/>
        </p:nvSpPr>
        <p:spPr>
          <a:xfrm>
            <a:off x="2162160" y="243828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in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TextBox 20"/>
          <p:cNvSpPr/>
          <p:nvPr/>
        </p:nvSpPr>
        <p:spPr>
          <a:xfrm>
            <a:off x="2514600" y="56275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xygen consumption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(VO2)=  (O2 out) - (O2 in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Consump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ygen consumed by the bod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sure oxygen out of the heart minus oxygen into the hea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2 = DO2 (out) – DO2 (in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2 = (Hgb)(CO)(SaO2-SvO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O2 and VO2 in sep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cxnSp>
        <p:nvCxnSpPr>
          <p:cNvPr id="172" name="AutoShape 3"/>
          <p:cNvCxnSpPr/>
          <p:nvPr/>
        </p:nvCxnSpPr>
        <p:spPr>
          <a:xfrm>
            <a:off x="1447560" y="2437920"/>
            <a:ext cx="1080" cy="350604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3" name="AutoShape 4"/>
          <p:cNvCxnSpPr/>
          <p:nvPr/>
        </p:nvCxnSpPr>
        <p:spPr>
          <a:xfrm>
            <a:off x="1447560" y="5943240"/>
            <a:ext cx="5105880" cy="108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4" name="AutoShape 5"/>
          <p:cNvCxnSpPr/>
          <p:nvPr/>
        </p:nvCxnSpPr>
        <p:spPr>
          <a:xfrm flipV="1">
            <a:off x="2133720" y="3733200"/>
            <a:ext cx="2591280" cy="16009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5" name="AutoShape 6"/>
          <p:cNvCxnSpPr/>
          <p:nvPr/>
        </p:nvCxnSpPr>
        <p:spPr>
          <a:xfrm flipV="1">
            <a:off x="4723920" y="3047400"/>
            <a:ext cx="2515320" cy="6865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176" name="Text Box 7"/>
          <p:cNvSpPr/>
          <p:nvPr/>
        </p:nvSpPr>
        <p:spPr>
          <a:xfrm>
            <a:off x="228600" y="3581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O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124080" y="6324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" name="Arc 20"/>
          <p:cNvSpPr/>
          <p:nvPr/>
        </p:nvSpPr>
        <p:spPr>
          <a:xfrm flipH="1" flipV="1">
            <a:off x="1675440" y="-381240"/>
            <a:ext cx="7010280" cy="6172200"/>
          </a:xfrm>
          <a:custGeom>
            <a:avLst/>
            <a:gdLst>
              <a:gd name="textAreaLeft" fmla="*/ 3505320 w 7010280"/>
              <a:gd name="textAreaRight" fmla="*/ 7010640 w 7010280"/>
              <a:gd name="textAreaTop" fmla="*/ 0 h 6172200"/>
              <a:gd name="textAreaBottom" fmla="*/ 3086280 h 6172200"/>
            </a:gdLst>
            <a:ahLst/>
            <a:rect l="textAreaLeft" t="textAreaTop" r="textAreaRight" b="textAreaBottom"/>
            <a:pathLst>
              <a:path stroke="0" w="7010400" h="6172200">
                <a:moveTo>
                  <a:pt x="3505204" y="0"/>
                </a:moveTo>
                <a:lnTo>
                  <a:pt x="3505204" y="0"/>
                </a:lnTo>
                <a:arcTo wR="3505200" hR="3086100" stAng="-5399996" swAng="5400003"/>
                <a:lnTo>
                  <a:pt x="3505200" y="3086100"/>
                </a:lnTo>
                <a:close/>
              </a:path>
              <a:path fill="none" w="7010400" h="6172200">
                <a:moveTo>
                  <a:pt x="3505204" y="0"/>
                </a:moveTo>
                <a:lnTo>
                  <a:pt x="3505204" y="0"/>
                </a:lnTo>
                <a:arcTo wR="3505200" hR="3086100" stAng="-5399996" swAng="5400003"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5410080" y="5486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ctat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2057400" y="25909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O2 = (Hgb)(CO)(SaO2-SvO2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6AF2-D7ED-495D-A3EB-3CB120F7B76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Mixed Venous Oxygen Saturation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s the oxygen saturation returning to the right heart (ScvO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or regular central lin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terminants of SvO</a:t>
            </a:r>
            <a:r>
              <a:rPr b="0" lang="en-US" sz="24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xygen deliver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xygen extra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igh values indicate (≥70%)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dequate tissue perfus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oor tissue extraction of oxyg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oal values in shock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cvO</a:t>
            </a:r>
            <a:r>
              <a:rPr b="0" lang="en-US" sz="2400" spc="-1" strike="noStrike" baseline="-14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≥70%, SvO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≥ 65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4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N Engl J Med. 2001; 345: 1368-77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13A1-2025-461E-8C0B-887BDEC3FEA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arly-Goal Directed Therapy in Septic Shock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ssure Sa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≥92% or PaO2 ≥6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luids until CVP 8-12 mmHg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MAP&lt;65 mmHg, add norepinephrine or dopam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c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7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ansfuse patient until Hct ≥30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persistent S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&lt;65% or Sc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7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art dobutamine at 3-5 mcg/kg/min and titrate up to 20 mcg/kg/m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28600" y="60199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14400" y="6396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DO2=c(hgb)(CO)(SaO2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33AF-BC49-430D-B346-490F7183429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asopressors and Inotrop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914400" y="3048120"/>
            <a:ext cx="7315200" cy="0"/>
          </a:xfrm>
          <a:prstGeom prst="line">
            <a:avLst/>
          </a:prstGeom>
          <a:ln w="263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304920" y="1981080"/>
            <a:ext cx="1752480" cy="914400"/>
          </a:xfrm>
          <a:prstGeom prst="downArrowCallout">
            <a:avLst>
              <a:gd name="adj1" fmla="val 47918"/>
              <a:gd name="adj2" fmla="val 47913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3808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pha actio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7010280" y="1981080"/>
            <a:ext cx="1676520" cy="914400"/>
          </a:xfrm>
          <a:prstGeom prst="downArrowCallout">
            <a:avLst>
              <a:gd name="adj1" fmla="val 45841"/>
              <a:gd name="adj2" fmla="val 45837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708660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eta actio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" name="AutoShape 12"/>
          <p:cNvSpPr/>
          <p:nvPr/>
        </p:nvSpPr>
        <p:spPr>
          <a:xfrm>
            <a:off x="7621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AutoShape 13"/>
          <p:cNvSpPr/>
          <p:nvPr/>
        </p:nvSpPr>
        <p:spPr>
          <a:xfrm>
            <a:off x="1981080" y="3276720"/>
            <a:ext cx="83844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" name="AutoShape 14"/>
          <p:cNvSpPr/>
          <p:nvPr/>
        </p:nvSpPr>
        <p:spPr>
          <a:xfrm>
            <a:off x="39625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AutoShape 15"/>
          <p:cNvSpPr/>
          <p:nvPr/>
        </p:nvSpPr>
        <p:spPr>
          <a:xfrm>
            <a:off x="69343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990720" y="33526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" name="Text Box 17"/>
          <p:cNvSpPr/>
          <p:nvPr/>
        </p:nvSpPr>
        <p:spPr>
          <a:xfrm rot="11091000">
            <a:off x="837720" y="3200040"/>
            <a:ext cx="60696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henyl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" name="Text Box 18"/>
          <p:cNvSpPr/>
          <p:nvPr/>
        </p:nvSpPr>
        <p:spPr>
          <a:xfrm rot="11091000">
            <a:off x="2134800" y="3300120"/>
            <a:ext cx="60696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repin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" name="Text Box 19"/>
          <p:cNvSpPr/>
          <p:nvPr/>
        </p:nvSpPr>
        <p:spPr>
          <a:xfrm rot="11091000">
            <a:off x="4038120" y="3351960"/>
            <a:ext cx="606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pin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" name="Text Box 20"/>
          <p:cNvSpPr/>
          <p:nvPr/>
        </p:nvSpPr>
        <p:spPr>
          <a:xfrm rot="11091000">
            <a:off x="7086240" y="3351960"/>
            <a:ext cx="606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butam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AutoShape 22"/>
          <p:cNvSpPr/>
          <p:nvPr/>
        </p:nvSpPr>
        <p:spPr>
          <a:xfrm>
            <a:off x="3429000" y="1981080"/>
            <a:ext cx="1752480" cy="914400"/>
          </a:xfrm>
          <a:prstGeom prst="downArrowCallout">
            <a:avLst>
              <a:gd name="adj1" fmla="val 47918"/>
              <a:gd name="adj2" fmla="val 47913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pha=Bet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2895480" y="6095880"/>
            <a:ext cx="2971800" cy="457200"/>
          </a:xfrm>
          <a:prstGeom prst="rect">
            <a:avLst/>
          </a:prstGeom>
          <a:solidFill>
            <a:srgbClr val="dac92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2819520" y="6095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pamin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25780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w do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22860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High do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" name="Line 27"/>
          <p:cNvSpPr/>
          <p:nvPr/>
        </p:nvSpPr>
        <p:spPr>
          <a:xfrm flipH="1">
            <a:off x="2057040" y="1371600"/>
            <a:ext cx="6858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6400800" y="1371600"/>
            <a:ext cx="6858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Steroids in 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V Hydrocortisone 200-300 mg/day in divided doses should be considered only for adult septic shock patients after adequate fluid resuscitation and vasopresser therapy to maintain blood pressur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H stimulation test should not be used identify the subset of adults with septic shock who should receive hydrocortison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lycemic Control in 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llowing initial stabilization, patients with severe sepsis and hyperglycemia who are admitted to the ICU should receive intravenous insulin therapy to reduce blood glucose levels to &lt;150 mg/d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637480" cy="107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combinant Human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ctivated Protein C (rhAPC)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hAPC may be considered in adult patients with sepsis-induced organ dysfunction associated with a clinical assessment of high risk of death, most of whom will have Acute Physiology and Chronic Health Evaluation (APACHE) II ≥25 or multiple organ failur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21337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CO = (HR) (SV)</a:t>
            </a:r>
            <a:endParaRPr b="0" lang="en-US" sz="7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cute Lung Injury and AR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rget tidal volumes ≤ 6 mL/k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rget plateau pressures ≤ 30 cm wa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ypercapnia is allow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DSnet protoco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d of bed &gt; 30 degre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lood Produc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the absence of an oxygen delivery problem, routine transfusion in the ICU unless Hgb &lt; 7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ve FFP only for patients with bleeding or planned invasive proced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ve platelets only for counts &lt; 5000 unless bleeding or planned proced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dation, Analgesia, Neuromuscular Blocka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dation protocols should be used in all ventilated pati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aily weaning trials and daily awaken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uromuscular blockading agents used sparingly if at al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icarbonate Therap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carbonate therapy should be only be given in severe acidosis ≤ 7.1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560" y="-6120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VT and Stress Ulcer Prophylax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VT prophylaxis with LMWH or UFH should be used.  In high risk patient use in conjunction with mechanical compres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ress ulcer prophylaxis with H2RA or PPI should be considered in all ventilated and high risk pati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2RA are preferr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sideration of Limitation of Suppor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uss advance care planning with patients and families. Describe likely outcomes and set realistic expectation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ake Home Poi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nk about sepsis and shock ear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reat shock ear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longer you wait the greater chance the patient will have of dying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wait until the patient is in the ICU to tre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d I mention treat early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3520" y="20574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CO = (HR) (SV)</a:t>
            </a:r>
            <a:endParaRPr b="0" lang="en-US" sz="7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 flipH="1">
            <a:off x="4190760" y="3124080"/>
            <a:ext cx="1600200" cy="9144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048120" y="3962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Volume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429000" y="4572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VP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AWP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5791320" y="3124080"/>
            <a:ext cx="1143000" cy="8384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032520" y="396252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“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Contractility”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BP ≈ (SVR)(CO)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≈ 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(SVR)(HR)(SV)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2819520"/>
          <a:ext cx="7620120" cy="11127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09480" y="2819520"/>
          <a:ext cx="7620120" cy="11127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2819520"/>
          <a:ext cx="7620120" cy="11984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2819520"/>
          <a:ext cx="7620120" cy="11984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  <p:sp>
        <p:nvSpPr>
          <p:cNvPr id="111" name="Oval 3"/>
          <p:cNvSpPr/>
          <p:nvPr/>
        </p:nvSpPr>
        <p:spPr>
          <a:xfrm>
            <a:off x="5334120" y="2438280"/>
            <a:ext cx="3200400" cy="228600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22:16:29Z</dcterms:created>
  <dc:creator>HCMARTINEZ</dc:creator>
  <dc:description/>
  <dc:language>en-US</dc:language>
  <cp:lastModifiedBy>HCMARTINEZ</cp:lastModifiedBy>
  <dcterms:modified xsi:type="dcterms:W3CDTF">2009-06-02T23:33:02Z</dcterms:modified>
  <cp:revision>104</cp:revision>
  <dc:subject/>
  <dc:title>Postoperative Care: Shock in the Surgical Patient</dc:title>
</cp:coreProperties>
</file>